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9461-75D3-48CC-A545-5E5DAD8A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030B-F5D6-4BF7-84E5-E59070C0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5EA7-30EC-402D-AB88-482B32F6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AD3C-02F3-480A-8766-8EAFBA6F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7580-A27B-4045-A9DC-B895ECFD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2E3E-93BE-4633-98E6-917FF569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296C-1F2B-4F77-8379-6A1B245D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B366-870F-40E2-944A-63DC62CA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7F71-FB83-4EE4-89F6-0D2031DE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98CB-F837-4724-A9D8-7C0061BD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9B90-ECDE-49C3-8124-3CF578AC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1C8F-B673-4D9E-9A9B-E52CAF4E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C239-13D2-4301-BA75-21EFF39AC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5:47:45Z</dcterms:created>
  <dc:creator>ricardo.scantamburlo</dc:creator>
  <dc:description/>
  <dc:language>en-US</dc:language>
  <cp:lastModifiedBy>ricardo.scantamburlo</cp:lastModifiedBy>
  <dcterms:modified xsi:type="dcterms:W3CDTF">2005-01-31T15:49:37Z</dcterms:modified>
  <cp:revision>3</cp:revision>
  <dc:subject/>
  <dc:title>Slide 1</dc:title>
</cp:coreProperties>
</file>